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4E10-BF6D-4E9D-B05C-2202F8E0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FFD5-C9C4-4CA2-AACC-19F93E9C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9839-2F1C-4BF5-897F-154DD53D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CF99-F678-40C6-8ED3-74745EFD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8A13-9293-4922-B7AB-DDD3CD0A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96FC-CA2E-4A23-AEC9-23EB9DAB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59D5-51B3-4E3B-B9DF-8913228C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26C8-FF9C-400D-A520-1B1BF1D7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500B-BA3D-47E5-8E44-4E6FD194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5A96-FB43-44B9-91A0-D5E48E7B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700-43E0-4DF6-B918-3660E8A0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FC85-3FE8-4832-957C-64DF8444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1D53-28CB-4B61-8C95-63C1B533EE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Time seri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"/>
              </a:rPr>
              <a:t>Smoothing with an even number of poin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t is usually preferable to smooth using an odd number of points, but sometimes even numbers can be used, i.e. a 4-point average or a 6-point averag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hen we used odd number smoothing, the result was automatically centred, i.e. the y-data had the same t-values as the original. This doesn’t happen for even-point smoothing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refore, we have to take an extra step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, Ex 4D, Q.1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14200" y="285840"/>
          <a:ext cx="8643960" cy="6370560"/>
        </p:xfrm>
        <a:graphic>
          <a:graphicData uri="http://schemas.openxmlformats.org/drawingml/2006/table">
            <a:tbl>
              <a:tblPr/>
              <a:tblGrid>
                <a:gridCol w="655920"/>
                <a:gridCol w="728640"/>
                <a:gridCol w="3425760"/>
                <a:gridCol w="3833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4-point moving 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4-point centred moving 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A 4-point moving average is mainly used for quarterly data and a 12-point moving average is used for monthly data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 4D: 2, 4, 5, 6, 8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6T05:58:37Z</dcterms:created>
  <dc:creator>08843474</dc:creator>
  <dc:description/>
  <dc:language>en-US</dc:language>
  <cp:lastModifiedBy>08843474</cp:lastModifiedBy>
  <dcterms:modified xsi:type="dcterms:W3CDTF">2011-03-28T23:29:58Z</dcterms:modified>
  <cp:revision>2</cp:revision>
  <dc:subject/>
  <dc:title>Time series</dc:title>
</cp:coreProperties>
</file>